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2685-9B39-43FB-816A-E6638D5F6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4079-6C57-4118-930E-BC4C7302AB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8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itle – name and 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l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requirements (does not have to be in the pres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 (does not have to be in the pres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y (does not have to be in the pres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(does not have to be in the pres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load presentation to the wiki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C9DE-3BEA-4557-922F-8BA4044B9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e scene and define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per Dan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E9B7-9CEA-4FDF-B833-2019D61519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CA0-6FA4-48A2-974E-9B3CD52E3C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0BED-E8EF-4C41-99A4-19C6BDF03D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9441-896F-4A53-8236-AEE3E1068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her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tailed bud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her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arch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exp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421-03B1-47A8-93BD-98E49128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A70-6409-414F-B447-3CB0A1D0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43F-68F4-432E-9D99-8DF10820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FDD-4436-444B-B7A0-EFE940A5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3F78-5784-43A1-BFD0-4AF7DA8C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32AE-1F04-4733-8DE4-8403D2AD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C5E1-8EB8-4BE0-B3AA-E0996D37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713-65E0-4651-BB3F-37382646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74C3-5820-46DF-8B10-FFA7220A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EF83-4C10-4545-9A09-7F608E1B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16A5-8E6E-4BAF-9545-270D7408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5B4-FBB1-4018-B8FC-E5141904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1CCE-91B3-49A0-BDE0-647902E7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A701-ADE5-47C8-9E16-2CD7AE9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E72B-8B05-4CF1-BAB2-BE5973DD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5C14-D55A-4BD9-B0EC-199FB5B0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FC34-F8E8-42DF-8F61-9CA772D7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9FD-83D1-4E78-B6A5-5651F6F8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1DF-6522-45AC-A6CE-3413FE99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8B0-9F32-4885-A011-460C19BB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F29-70CE-4D74-B532-9AD2472C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CA4-F70E-443B-AB31-514C0AA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D05-52B2-4C2D-AD21-DE9C78D1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F57-43E2-44D2-8BC7-778B170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19EE-3049-4466-A1EA-4819E54107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718-9CC0-4291-9F12-3CB45CBFB1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Garamond"/>
              </a:rPr>
              <a:t>FamLink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iel Bai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ah Hil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lly Mi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Garamond"/>
              </a:rPr>
              <a:t>Scenario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nny Glad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derly Hallway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rdy 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-of-State College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Garamond"/>
              </a:rPr>
              <a:t>Squeeze Sender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Picture 4" descr="not see through"/>
          <p:cNvPicPr/>
          <p:nvPr/>
        </p:nvPicPr>
        <p:blipFill>
          <a:blip r:embed="rId1"/>
          <a:srcRect l="29712" t="24759" r="40577" b="21785"/>
          <a:stretch/>
        </p:blipFill>
        <p:spPr>
          <a:xfrm>
            <a:off x="3657600" y="304812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ee through"/>
          <p:cNvPicPr/>
          <p:nvPr/>
        </p:nvPicPr>
        <p:blipFill>
          <a:blip r:embed="rId2"/>
          <a:srcRect l="29068" t="28742" r="40929" b="21273"/>
          <a:stretch/>
        </p:blipFill>
        <p:spPr>
          <a:xfrm>
            <a:off x="380880" y="1371600"/>
            <a:ext cx="24386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together"/>
          <p:cNvPicPr/>
          <p:nvPr/>
        </p:nvPicPr>
        <p:blipFill>
          <a:blip r:embed="rId3"/>
          <a:srcRect l="36884" t="11248" r="24673" b="6276"/>
          <a:stretch/>
        </p:blipFill>
        <p:spPr>
          <a:xfrm>
            <a:off x="5715000" y="1600200"/>
            <a:ext cx="3124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Garamond"/>
              </a:rPr>
              <a:t>Touch Screen on B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5" descr="final w_lines2"/>
          <p:cNvPicPr/>
          <p:nvPr/>
        </p:nvPicPr>
        <p:blipFill>
          <a:blip r:embed="rId1"/>
          <a:srcRect l="13334" t="15193" r="26668" b="0"/>
          <a:stretch/>
        </p:blipFill>
        <p:spPr>
          <a:xfrm>
            <a:off x="4572000" y="3198960"/>
            <a:ext cx="4419720" cy="3524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final w_lines"/>
          <p:cNvPicPr/>
          <p:nvPr/>
        </p:nvPicPr>
        <p:blipFill>
          <a:blip r:embed="rId2"/>
          <a:srcRect l="8887" t="0" r="20000" b="23154"/>
          <a:stretch/>
        </p:blipFill>
        <p:spPr>
          <a:xfrm>
            <a:off x="228600" y="990720"/>
            <a:ext cx="4876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Garamond"/>
              </a:rPr>
              <a:t>The Love Bu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6" descr="Sarahs_project(4)"/>
          <p:cNvPicPr/>
          <p:nvPr/>
        </p:nvPicPr>
        <p:blipFill>
          <a:blip r:embed="rId1"/>
          <a:stretch/>
        </p:blipFill>
        <p:spPr>
          <a:xfrm>
            <a:off x="1295280" y="905040"/>
            <a:ext cx="67057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Garamond"/>
              </a:rPr>
              <a:t>Next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view ED Staff and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ct Resear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iz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the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Prot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Prot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Garamond"/>
              </a:rPr>
              <a:t>Questions?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0:00:27Z</dcterms:created>
  <dc:creator>gradstudent</dc:creator>
  <dc:description/>
  <dc:language>en-US</dc:language>
  <cp:lastModifiedBy>Emory Healthcare</cp:lastModifiedBy>
  <dcterms:modified xsi:type="dcterms:W3CDTF">2008-10-29T12:15:01Z</dcterms:modified>
  <cp:revision>9</cp:revision>
  <dc:subject/>
  <dc:title>ED of the Future: Connecting Patients and Families</dc:title>
</cp:coreProperties>
</file>